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  <p:custShowLst>
    <p:custShow name="Произвольный показ 1" id="0">
      <p:sldLst>
        <p:sld r:id="rId7"/>
        <p:sld r:id="rId8"/>
        <p:sld r:id="rId9"/>
        <p:sld r:id="rId10"/>
        <p:sld r:id="rId11"/>
        <p:sld r:id="rId12"/>
        <p:sld r:id="rId13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1F52-B987-41CF-8AB6-07DB5DAA866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русского языка                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3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е по картине И.И. Шишкина «Зим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2096-EF25-4FE5-B474-5D1ED7ED79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познакомить учащихся с картиной И.И. Шишкина «Зим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чить «читать» картину, правильно и последовательно излаг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с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вивать художественный вкус, умение сравнивать, пережи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ть любовь к родной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4C6D-17A7-4E90-AC6B-05C44390A8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Данн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ов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чий, красивый, тихий, пустынный, спокойный, сказочн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инств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шистый, серебристый, белый, голубоватый, легкий, мохнат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, новый.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чие, величавые, стройные, креп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Ё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енькие, в нарядных белых плать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шебница, чародей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ый, морозный, зимний, холодный, чудес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жий, холод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AFE5-4614-4313-9EE1-DB0E5D6620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рошенный, властвует, редко ступ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авые, могучие, выросли на простор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ынно, чётко, различимы, стволы, повале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ыпанные, голубовато-белый массив, передн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, изобразил, вверху, переливают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C7D2-1DBE-4F8C-BAF2-03F73778B1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ишла волшебница з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ремлет лес под сказку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нег, снег, снег – царство     сн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е отношение к карт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BBBC-DABD-4ED5-AD96-21F3ABB1CA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290-2EA9-44C7-9C45-406A0FB2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975-F1CF-44EA-8F59-B90416D1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40D0-53D0-4502-9035-7747B5C2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F53F-1925-46D8-A9D2-73286307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F14B-9E5D-4875-A53C-59BB8C26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C29E-5D45-4DB7-A5DE-D54AB1CA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58E3-7804-4E1A-8F62-0B132206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E7B2-3DC0-4B4C-8C40-F97C8DA2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3076-EA14-455F-8F98-A51E8365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A519-8E24-4E31-A47D-C74C5F17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7328-10AD-441C-8F50-14F9AF1C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94E-D7AA-4099-A7A4-F75E7C8B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81D3-FF0A-4EFB-85C7-EF368474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9455-30F8-420F-AC74-9E46B6D4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F945-229C-4AAD-86CF-A549F952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47EA-F451-4B70-919B-EF8149A2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253C-FCA5-4D83-96E7-898BDD3A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1B32E-A50A-41F2-A382-178A688F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D03FD-420C-44D9-BF1B-E592867F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7AC3D-945D-49EC-814F-628E172D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BD6A0-5DEE-4568-937A-289FE1AE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24069-312F-4B0D-A0AC-7815D35E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D49-EE04-464D-B80A-0FD88A90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41FA5-2E6E-4B28-8A38-D22C3905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8066A-AC20-49C7-B14B-76AF8B29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8346E-FAA0-488A-9DCD-89F07307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E228A-FDA0-4630-BB79-D3447CCF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73ACF-10E5-47CF-83D0-A545F158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9B8E3-EF23-4435-82F9-E73E48F8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53D69-F7B1-4A92-B957-8D2CE823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0A29F-3A36-4292-AAFF-5A740C42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8A318-FBAA-44DE-959D-FD7ABEA8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C4A74-6543-453F-A044-AD1AE63C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8DC-DD54-451E-A627-2755BFA0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9995E-5354-4C6A-A1FD-D61B3E4B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1F4C3-3F5B-4ADF-AA12-2819A0E4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E2E0C-D1BD-4275-A5BC-004C8D64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F6D8E-003B-4E56-9B12-562C0BE0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18355-ACE6-49A1-BE97-7A6710AA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957A5-9A77-4771-84A0-912A73B5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2A452-F1D5-4980-AC6C-9190E68B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E6F4F-ED88-4BF7-BB5C-C5422472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4F14B-2C9D-4785-A135-400FBEA2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F8CC-8330-4B0D-96D0-54027293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386-4226-4CC4-B5C3-D70AA490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A583-DD3C-4BAE-8F7B-8AFCB8F3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8EAC-B604-49CB-8D56-6CC5FA83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6A5E-A41B-4DB2-A233-4B81C03E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2433-D7CB-453F-8625-F0B8F4B87720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4682-7423-4083-9AE0-97E0FA7D3CA3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F6FC-B1BE-4D9E-B5AB-7B9664A42F96}" type="datetime">
              <a:rPr b="0" lang="ru-RU" sz="1200" spc="-1" strike="noStrike">
                <a:solidFill>
                  <a:srgbClr val="e9dce2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F3F1-11EA-4FFE-96F8-E9B515219216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2080-9DEF-4190-AB00-AC8C75978921}" type="datetime">
              <a:rPr b="0" lang="ru-RU" sz="1200" spc="-1" strike="noStrike">
                <a:solidFill>
                  <a:srgbClr val="e9dce2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C207-8081-4E74-BA03-E0CFFD01DD08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F142-609F-4036-AE59-9027B5AC74A6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722B-AD63-4C1D-BE04-31DCE0D66AAA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12411360" cy="2273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чинение по картине И.И. Шишкина «Зима»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и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-познакомить учащихся с картиной И.И. Шишкина «Зима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Учить «читать» картину, правильно и последовательно излага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ысл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развивать художественный вкус, умение сравнивать, пережива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воспитывать любовь к родной природ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357280" y="357120"/>
            <a:ext cx="4286520" cy="59673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4357800" cy="364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643280" y="428760"/>
            <a:ext cx="4324680" cy="5238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85840" y="214200"/>
            <a:ext cx="8400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Данно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Ново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ес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гучий, красивый, тихий, пустынный, спокойный, сказочны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аинственн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не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ушистый, серебристый, белый, голубоватый, легкий, мохнаты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истый, новый.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сн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гучие, величавые, стройные, крепк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Ёлоч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ленькие, в нарядных белых платьях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и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лшебница, чародей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Ясный, морозный, зимний, холодный, чудесн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зду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вежий, холодн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брошенный, властвует, редко ступает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еличавые, могучие, выросли на просторе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устынно, чётко, различимы, стволы, поваленные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сыпанные, голубовато-белый массив, переднем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идим, изобразил, вверху, переливаются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Пришла волшебница зим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. Дремлет лес под сказку сн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. Снег, снег, снег – царство     снег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. Мое отношение к картин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0:01:20Z</dcterms:created>
  <dc:creator>Loner-XP</dc:creator>
  <dc:description/>
  <dc:language>en-US</dc:language>
  <cp:lastModifiedBy>LEGION</cp:lastModifiedBy>
  <dcterms:modified xsi:type="dcterms:W3CDTF">2015-01-20T11:55:30Z</dcterms:modified>
  <cp:revision>7</cp:revision>
  <dc:subject/>
  <dc:title>          Урок русского языка                                 3 класс</dc:title>
</cp:coreProperties>
</file>